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FAC-672B-4735-8702-9F330A28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821-F35D-4FBA-A630-D6725608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C799-24B1-4392-9C91-87245705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00C-F4D4-4FB2-8D22-C951650F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0A47-1A1C-4870-A216-804A6728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C504-0B77-426C-819C-CDBE10B2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86C3-CDB8-4DAC-84E7-2D065C24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243F-2830-4B67-BA2D-C9F79A38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9345-D74A-44F5-AA2C-7C305013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9963-9256-4350-A52E-7DABF0F1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6D2E-EF5E-4DC8-956B-9AA40ED2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0C0-21B2-4158-B2EA-D5DDD0EF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6003-6A5B-4009-B724-A18AF1C3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E8C9-4F61-4BA2-A048-3817C4B2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B6C9-DC7E-4265-B17C-CEC86897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035B-CAAD-441C-8DCD-66BFDC0E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E520-1038-4590-9149-32201E59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359-6151-4F47-892B-F144A091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D98-61F7-4A13-A3FA-FEB25A75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CF6-0DF6-4C0B-8CAB-F44207C4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F47-D402-4726-B15E-3D5F11C6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1A0-BB56-4281-A6D0-25E67684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5FE-6B96-40BE-A779-2908F1B7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C7A1-3C5E-4CC0-93AD-9061B297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3E13-DD2A-4109-8D77-AF439D2A7B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5A01-46CF-41EF-B185-5785FDF90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google.com/imgres?imgurl=http://library.thinkquest.org/5135/foxWinterRed.jpg&amp;imgrefurl=http://library.thinkquest.org/5135/foxes.htm&amp;usg=__kcyQ5qBdpDTI_pKLmuyowRKJ7i0=&amp;h=350&amp;w=350&amp;sz=28&amp;hl=en&amp;start=1&amp;itbs=1&amp;tbnid=uPJAzd3swDnk6M:&amp;tbnh=120&amp;tbnw=120&amp;prev=/images%3Fq%3Dfoxes%26hl%3Den%26safe%3Dactive%26gbv%3D2%26tbs%3Disch: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m/imgres?imgurl=http://img.dailymail.co.uk/i/pix/2007/07_02/cub1807_468x681.jpg&amp;imgrefurl=http://www.dailymail.co.uk/news/article-469379/Extraordinary-pictures-Pride-joy-Lion-King.html&amp;usg=__EORYWBHyeRTnuoKjmFjb8gHYIHk=&amp;h=681&amp;w=468&amp;sz=106&amp;hl=en&amp;start=68&amp;itbs=1&amp;tbnid=WrGb4dbBNN8iTM:&amp;tbnh=139&amp;tbnw=96&amp;prev=/images%3Fq%3Dlion%26start%3D60%26hl%3Den%26safe%3Dactive%26sa%3DN%26gbv%3D2%26ndsp%3D20%26tbs%3Disch:1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m/imgres?imgurl=http://www.fondosdeescritorio10.com/wp-content/uploads/2008/11/foca-arpa-beb-eacute.jpg&amp;imgrefurl=http://www.fondosdeescritorio10.com/wp-content/uploads/2008/11/&amp;usg=__bmw0Ta9yHaixMR0x1PzqEHZcDQk=&amp;h=1200&amp;w=1600&amp;sz=366&amp;hl=en&amp;start=8&amp;itbs=1&amp;tbnid=ml-p0t7wMHvcBM:&amp;tbnh=113&amp;tbnw=150&amp;prev=/images%3Fq%3Dfoca%26hl%3Den%26safe%3Dactive%26gbv%3D2%26tbs%3Disch:1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www.google.com/imgres?imgurl=http://files.myopera.com/occhidigatto/albums/194275/gato.jpg&amp;imgrefurl=http://my.opera.com/occhidigatto/albums/showpic.dml%3Falbum%3D194275%26picture%3D2945504&amp;usg=__mrv299G3qBzHC9CUv5JwcCbKIOk=&amp;h=500&amp;w=403&amp;sz=24&amp;hl=en&amp;start=3&amp;itbs=1&amp;tbnid=cHI1wpFRbhm7-M:&amp;tbnh=130&amp;tbnw=105&amp;prev=/images%3Fq%3Dgato%26hl%3Den%26safe%3Dactive%26gbv%3D2%26tbs%3Disch:1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www.google.com/imgres?imgurl=http://www.vivirconmascotas.com/files/perro_3.jpg&amp;imgrefurl=http://zelene.ohlog.com/p-e-r-r-o.oh87860.html&amp;usg=__SuE9uJ8_60DT7-334xPYKdkQL_Y=&amp;h=450&amp;w=600&amp;sz=26&amp;hl=en&amp;start=9&amp;itbs=1&amp;tbnid=7ITRDHM89824eM:&amp;tbnh=101&amp;tbnw=135&amp;prev=/images%3Fq%3Dperro%26hl%3Den%26safe%3Dactive%26gbv%3D2%26tbs%3Disch:1" TargetMode="External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hyperlink" Target="http://www.google.com/imgres?imgurl=http://mlbfleecefactor.files.wordpress.com/2007/11/winter-wallpaper.jpg&amp;imgrefurl=http://mlbfleecefactor.wordpress.com/2007/11/29/winter-meetings-rapidly-approaching/&amp;usg=__V0afj2O83qYswWgTvoMYpqreOdU=&amp;h=768&amp;w=1024&amp;sz=222&amp;hl=en&amp;start=19&amp;itbs=1&amp;tbnid=JHW1bIWqBwESsM:&amp;tbnh=113&amp;tbnw=150&amp;prev=/images%3Fq%3Dwinter%26hl%3Den%26safe%3Dactive%26gbv%3D2%26tbs%3Disch:1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decideforyourself.files.wordpress.com/2008/10/spring2.jpg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www.google.com/imgres?imgurl=http://www.prontohotel.com/blog/wp-content/uploads/2009/06/holidays-summer.jpg&amp;imgrefurl=http://www.prontohotel.com/blog/travel-news/the-best-deal-for-your-summer-holidays.html&amp;usg=__UDbb86n7L8BQ7YgKr6SVHuluvX8=&amp;h=338&amp;w=450&amp;sz=70&amp;hl=en&amp;start=33&amp;itbs=1&amp;tbnid=WGdYz0DKV6IWwM:&amp;tbnh=95&amp;tbnw=127&amp;prev=/images%3Fq%3Dsummer%26start%3D20%26hl%3Den%26safe%3Dactive%26sa%3DN%26gbv%3D2%26ndsp%3D20%26tbs%3Disch:1" TargetMode="External"/><Relationship Id="rId11" Type="http://schemas.openxmlformats.org/officeDocument/2006/relationships/image" Target="../media/image11.jpeg"/><Relationship Id="rId12" Type="http://schemas.openxmlformats.org/officeDocument/2006/relationships/hyperlink" Target="http://www.google.com/imgres?imgurl=http://americanhistory.si.edu/paint/images/large_images/IndianSummer.jpg&amp;imgrefurl=http://americanhistory.si.edu/paint/images/large_images/image_html/indiansummer.html&amp;usg=__jzcZ5CJ6suN9iH--s_Lv175pppU=&amp;h=300&amp;w=400&amp;sz=117&amp;hl=en&amp;start=9&amp;itbs=1&amp;tbnid=O5fCoLeKWngVxM:&amp;tbnh=93&amp;tbnw=124&amp;prev=/images%3Fq%3Dsummer%26hl%3Den%26safe%3Dactive%26gbv%3D2%26tbs%3Disch:1" TargetMode="External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clase de Espan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ris y Dayja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os animal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pha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or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772400" y="2057400"/>
            <a:ext cx="1076400" cy="1619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905120"/>
            <a:ext cx="1447920" cy="1676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772400" y="3962520"/>
            <a:ext cx="1066680" cy="1476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62720" y="39625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38480" y="3962520"/>
            <a:ext cx="1152720" cy="1314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81280" y="1981080"/>
            <a:ext cx="17431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Est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57200" y="411444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648320" y="411444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1981080"/>
            <a:ext cx="4038480" cy="2057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48320" y="19810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57200" y="411480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648320" y="4114800"/>
            <a:ext cx="4038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famil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ue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u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m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30:40Z</dcterms:created>
  <dc:creator>WSFCS Workstation</dc:creator>
  <dc:description/>
  <dc:language>en-US</dc:language>
  <cp:lastModifiedBy>WSFCS Workstation</cp:lastModifiedBy>
  <dcterms:modified xsi:type="dcterms:W3CDTF">2010-04-26T15:59:15Z</dcterms:modified>
  <cp:revision>3</cp:revision>
  <dc:subject/>
  <dc:title>La clase de Espanol</dc:title>
</cp:coreProperties>
</file>